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4D7-C028-43EC-879E-BDC1481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CA9-0EA8-4B73-B24B-4DD2E63D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AE9-5842-4D16-B8DF-11B5D890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CA5-3AF1-4C03-901D-68E0E3F2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6FA2-BB1B-401E-B634-D4BEB837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98E-C951-4C6A-A19D-52598D7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66F-0DAB-466A-8100-5DD9FDDE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79EF-8440-4FFB-ACF1-3AAA5B82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7B2-04A5-4B1E-A13A-A25FDCCB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B86-54B9-4FE9-964E-7267192B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BE2-C5DE-4BA9-95B2-460A978E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9C8-3454-4629-A970-B66CC645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030F-6BE8-4D65-A993-FE3F71125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s Gewindeschnei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133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ntworte die folgenden Frag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057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s Werkzeug zum Einspannen des Gewindebohrers heißt Wendei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Zum Küh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2133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muss ich beim Gewindeschneiden zuführ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95280" y="3352680"/>
            <a:ext cx="4419360" cy="762120"/>
            <a:chOff x="1295280" y="3352680"/>
            <a:chExt cx="4419360" cy="762120"/>
          </a:xfrm>
        </p:grpSpPr>
        <p:sp>
          <p:nvSpPr>
            <p:cNvPr id="113" name=""/>
            <p:cNvSpPr/>
            <p:nvPr/>
          </p:nvSpPr>
          <p:spPr>
            <a:xfrm>
              <a:off x="1295280" y="335268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83480" y="350496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as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295280" y="4191120"/>
            <a:ext cx="4419360" cy="761760"/>
            <a:chOff x="1295280" y="4191120"/>
            <a:chExt cx="4419360" cy="761760"/>
          </a:xfrm>
        </p:grpSpPr>
        <p:sp>
          <p:nvSpPr>
            <p:cNvPr id="116" name=""/>
            <p:cNvSpPr/>
            <p:nvPr/>
          </p:nvSpPr>
          <p:spPr>
            <a:xfrm>
              <a:off x="1295280" y="4191120"/>
              <a:ext cx="4419360" cy="76176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83480" y="434304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hneidö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95280" y="5029200"/>
            <a:ext cx="4419360" cy="762120"/>
            <a:chOff x="1295280" y="5029200"/>
            <a:chExt cx="4419360" cy="762120"/>
          </a:xfrm>
        </p:grpSpPr>
        <p:sp>
          <p:nvSpPr>
            <p:cNvPr id="119" name=""/>
            <p:cNvSpPr/>
            <p:nvPr/>
          </p:nvSpPr>
          <p:spPr>
            <a:xfrm>
              <a:off x="1295280" y="502920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83480" y="518148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latö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609480" y="342900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09480" y="4267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1055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ider nicht ganz 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895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lege noch einmal und versuche es dann erne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880" y="4724280"/>
            <a:ext cx="3353040" cy="9144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057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h muss Schneidöl zuführen, um den Bohrer zu kühlen und zu schm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r Schneidvorga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133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um muss ich regelmäßig den Span brec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95280" y="3352680"/>
            <a:ext cx="5638680" cy="762120"/>
            <a:chOff x="1295280" y="3352680"/>
            <a:chExt cx="5638680" cy="762120"/>
          </a:xfrm>
        </p:grpSpPr>
        <p:sp>
          <p:nvSpPr>
            <p:cNvPr id="135" name=""/>
            <p:cNvSpPr/>
            <p:nvPr/>
          </p:nvSpPr>
          <p:spPr>
            <a:xfrm>
              <a:off x="1295280" y="3352680"/>
              <a:ext cx="563868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7960" y="3504960"/>
              <a:ext cx="55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il der Schneider sonst verklemmen kan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95280" y="4191120"/>
            <a:ext cx="5638680" cy="761760"/>
            <a:chOff x="1295280" y="4191120"/>
            <a:chExt cx="5638680" cy="761760"/>
          </a:xfrm>
        </p:grpSpPr>
        <p:sp>
          <p:nvSpPr>
            <p:cNvPr id="138" name=""/>
            <p:cNvSpPr/>
            <p:nvPr/>
          </p:nvSpPr>
          <p:spPr>
            <a:xfrm>
              <a:off x="1295280" y="4191120"/>
              <a:ext cx="5638680" cy="76176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7960" y="4343040"/>
              <a:ext cx="55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il ich dann mehr wegzukehren ha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95280" y="5029200"/>
            <a:ext cx="5638680" cy="762120"/>
            <a:chOff x="1295280" y="5029200"/>
            <a:chExt cx="5638680" cy="762120"/>
          </a:xfrm>
        </p:grpSpPr>
        <p:sp>
          <p:nvSpPr>
            <p:cNvPr id="141" name=""/>
            <p:cNvSpPr/>
            <p:nvPr/>
          </p:nvSpPr>
          <p:spPr>
            <a:xfrm>
              <a:off x="1295280" y="5029200"/>
              <a:ext cx="563868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07960" y="5181480"/>
              <a:ext cx="55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il es uns unser Lehrer gesagt h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09480" y="342900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4267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1055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ider nicht ganz 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895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lege noch einmal und versuche es dann erne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0880" y="4724280"/>
            <a:ext cx="3353040" cy="9144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 Gewindebohrer kann verklemmen, wenn ich den Span nicht regelmäßig breche – dadurch kann sowohl der Bohrer, als auch das Werkstück beschädig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ut s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3479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 hast heute gelernt, wie man ein Gewinde schnei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ederhole zu Hause alles, was du heute neu erfahren ha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 Gewindear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erst etwas einfache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e heißen die beiden unterschiedlichen Gewindear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3352680"/>
            <a:ext cx="4419720" cy="762120"/>
            <a:chOff x="1295280" y="3352680"/>
            <a:chExt cx="4419720" cy="762120"/>
          </a:xfrm>
        </p:grpSpPr>
        <p:sp>
          <p:nvSpPr>
            <p:cNvPr id="47" name=""/>
            <p:cNvSpPr/>
            <p:nvPr/>
          </p:nvSpPr>
          <p:spPr>
            <a:xfrm>
              <a:off x="1295280" y="3352680"/>
              <a:ext cx="441972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1600" y="3505320"/>
              <a:ext cx="433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nen- und Außengewi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295280" y="4191120"/>
            <a:ext cx="4419360" cy="761760"/>
            <a:chOff x="1295280" y="4191120"/>
            <a:chExt cx="4419360" cy="761760"/>
          </a:xfrm>
        </p:grpSpPr>
        <p:sp>
          <p:nvSpPr>
            <p:cNvPr id="50" name=""/>
            <p:cNvSpPr/>
            <p:nvPr/>
          </p:nvSpPr>
          <p:spPr>
            <a:xfrm>
              <a:off x="1295280" y="4191120"/>
              <a:ext cx="4419360" cy="76176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83480" y="434304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uttern- und Schraubengewi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295280" y="5029200"/>
            <a:ext cx="4419360" cy="762120"/>
            <a:chOff x="1295280" y="5029200"/>
            <a:chExt cx="4419360" cy="762120"/>
          </a:xfrm>
        </p:grpSpPr>
        <p:sp>
          <p:nvSpPr>
            <p:cNvPr id="53" name=""/>
            <p:cNvSpPr/>
            <p:nvPr/>
          </p:nvSpPr>
          <p:spPr>
            <a:xfrm>
              <a:off x="1295280" y="502920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83480" y="518148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Über- und Untergewin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609480" y="342900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609480" y="4267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09480" y="51055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ider nicht ganz 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895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lege noch einmal und versuche es dann erne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 flipH="1">
            <a:off x="380880" y="4724280"/>
            <a:ext cx="3353040" cy="9144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057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r unterscheiden beim Schneiden von Gewinden zwischen Innen- und Außengewi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 Werkzeug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1337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e nennt man die Werkzeuge zum Gewindeschnei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3352680"/>
            <a:ext cx="4419360" cy="762120"/>
            <a:chOff x="1295280" y="3352680"/>
            <a:chExt cx="4419360" cy="762120"/>
          </a:xfrm>
        </p:grpSpPr>
        <p:sp>
          <p:nvSpPr>
            <p:cNvPr id="69" name=""/>
            <p:cNvSpPr/>
            <p:nvPr/>
          </p:nvSpPr>
          <p:spPr>
            <a:xfrm>
              <a:off x="1295280" y="335268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83480" y="350496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windebrec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295280" y="4191120"/>
            <a:ext cx="4419360" cy="761760"/>
            <a:chOff x="1295280" y="4191120"/>
            <a:chExt cx="4419360" cy="761760"/>
          </a:xfrm>
        </p:grpSpPr>
        <p:sp>
          <p:nvSpPr>
            <p:cNvPr id="72" name=""/>
            <p:cNvSpPr/>
            <p:nvPr/>
          </p:nvSpPr>
          <p:spPr>
            <a:xfrm>
              <a:off x="1295280" y="4191120"/>
              <a:ext cx="4419360" cy="76176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83480" y="434304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windeboh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295280" y="5029200"/>
            <a:ext cx="4419360" cy="762120"/>
            <a:chOff x="1295280" y="5029200"/>
            <a:chExt cx="4419360" cy="762120"/>
          </a:xfrm>
        </p:grpSpPr>
        <p:sp>
          <p:nvSpPr>
            <p:cNvPr id="75" name=""/>
            <p:cNvSpPr/>
            <p:nvPr/>
          </p:nvSpPr>
          <p:spPr>
            <a:xfrm>
              <a:off x="1295280" y="502920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83480" y="518148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windedre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609480" y="342900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609480" y="4267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609480" y="51055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ider nicht ganz 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895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lege noch einmal und versuche es dann erne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 flipH="1">
            <a:off x="380880" y="4724280"/>
            <a:ext cx="3353040" cy="9144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057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Werkzeuge zum Schneiden eines Innengewindes nennt man Gewindeboh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5562720" y="5334120"/>
            <a:ext cx="2209680" cy="914400"/>
          </a:xfrm>
          <a:prstGeom prst="rightArrow">
            <a:avLst>
              <a:gd name="adj1" fmla="val 50000"/>
              <a:gd name="adj2" fmla="val 604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5105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 Werkzeug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133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e heißt das Werkzeug, in welches die Gewindebohrer eingespann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95280" y="3352680"/>
            <a:ext cx="4419360" cy="762120"/>
            <a:chOff x="1295280" y="3352680"/>
            <a:chExt cx="4419360" cy="762120"/>
          </a:xfrm>
        </p:grpSpPr>
        <p:sp>
          <p:nvSpPr>
            <p:cNvPr id="91" name=""/>
            <p:cNvSpPr/>
            <p:nvPr/>
          </p:nvSpPr>
          <p:spPr>
            <a:xfrm>
              <a:off x="1295280" y="335268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83480" y="350496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ei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295280" y="4191120"/>
            <a:ext cx="4419360" cy="761760"/>
            <a:chOff x="1295280" y="4191120"/>
            <a:chExt cx="4419360" cy="761760"/>
          </a:xfrm>
        </p:grpSpPr>
        <p:sp>
          <p:nvSpPr>
            <p:cNvPr id="94" name=""/>
            <p:cNvSpPr/>
            <p:nvPr/>
          </p:nvSpPr>
          <p:spPr>
            <a:xfrm>
              <a:off x="1295280" y="4191120"/>
              <a:ext cx="4419360" cy="76176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83480" y="434304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undei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295280" y="5029200"/>
            <a:ext cx="4419360" cy="762120"/>
            <a:chOff x="1295280" y="5029200"/>
            <a:chExt cx="4419360" cy="762120"/>
          </a:xfrm>
        </p:grpSpPr>
        <p:sp>
          <p:nvSpPr>
            <p:cNvPr id="97" name=""/>
            <p:cNvSpPr/>
            <p:nvPr/>
          </p:nvSpPr>
          <p:spPr>
            <a:xfrm>
              <a:off x="1295280" y="5029200"/>
              <a:ext cx="4419360" cy="7621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3480" y="5181480"/>
              <a:ext cx="43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ndeis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09480" y="342900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609480" y="4267080"/>
            <a:ext cx="609840" cy="609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609480" y="5105520"/>
            <a:ext cx="60984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ider nicht ganz richti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895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Überlege noch einmal und versuche es dann erne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 flipH="1">
            <a:off x="380880" y="4724280"/>
            <a:ext cx="3353040" cy="914400"/>
          </a:xfrm>
          <a:prstGeom prst="rightArrow">
            <a:avLst>
              <a:gd name="adj1" fmla="val 50000"/>
              <a:gd name="adj2" fmla="val 916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4495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9:20:51Z</dcterms:created>
  <dc:creator>Carsten Bordes</dc:creator>
  <dc:description/>
  <dc:language>en-US</dc:language>
  <cp:lastModifiedBy>Carsten Bordes</cp:lastModifiedBy>
  <dcterms:modified xsi:type="dcterms:W3CDTF">2002-12-12T20:54:31Z</dcterms:modified>
  <cp:revision>9</cp:revision>
  <dc:subject/>
  <dc:title>Das Gewindeschneiden</dc:title>
</cp:coreProperties>
</file>